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5.jpeg" ContentType="image/jpeg"/>
  <Override PartName="/ppt/media/image20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70B-5A3C-4213-BA5D-9EEB067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BF7-EE08-4594-87BC-E3BB30B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4F7-CAA1-4009-AEB2-75E2C48E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116-1B34-4475-B200-8084F921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1BF-8238-4716-B46A-4D59EF2A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66E-FC93-4EC5-A651-C390B4C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95E-961B-4DCD-9961-E20B3C3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16D-3228-4462-9A23-BB38734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5B8-C5AE-4FA8-B3B8-63B3269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E7A-EE0C-43F9-A1D6-978C5BF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4A8-20FF-4CC6-93D1-C7B65F7A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AAB-6F81-44A5-968C-6DF16AD6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FCB1-BBE1-4AE7-92E3-F7E7842D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ub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13 Meiosis &amp; Sexual Life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I. Fertil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rm cell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gg cell = 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40080" y="3427560"/>
            <a:ext cx="1444680" cy="121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4419360" y="3429000"/>
            <a:ext cx="15238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295280" y="4267080"/>
            <a:ext cx="5486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bryo cell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6 chromosomes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V. Types of Life Cyc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xual reproduction requires meiosis to form haploid cells and then mitosis to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the size of haplo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&amp; development of the diploid s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when” and “what” happens is answered by one of 3 life cy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ame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  = Organism we recogn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egg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http://www.botany.hawaii.edu/faculty/webb/Bot201/Bot201/Algae/BOT%20201%20GAMETIC%20MEIOSIS.jpg"/>
          <p:cNvPicPr/>
          <p:nvPr/>
        </p:nvPicPr>
        <p:blipFill>
          <a:blip r:embed="rId1"/>
          <a:stretch/>
        </p:blipFill>
        <p:spPr>
          <a:xfrm>
            <a:off x="3087720" y="3200400"/>
            <a:ext cx="6056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s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&amp; some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es produce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www.botany.hawaii.edu/BOT201/Algae/BOT%20201%20SPORIC%20MEIOSIS.jpg"/>
          <p:cNvPicPr/>
          <p:nvPr/>
        </p:nvPicPr>
        <p:blipFill>
          <a:blip r:embed="rId1"/>
          <a:stretch/>
        </p:blipFill>
        <p:spPr>
          <a:xfrm>
            <a:off x="457200" y="3124080"/>
            <a:ext cx="809640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on of Generations: Part of life spent as diploid organism, other part spent as haploid org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term &amp; codependence varies by plant phyl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ering plants have 2n dominant and retain the n inside the diploid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ses have gametophyte dominant and 2n seen only 2 weeks out of a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 (Angiosper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Picture 4" descr="http://8e.devbio.com/images/ch20/01.PLC.04.thumb.jpg"/>
          <p:cNvPicPr/>
          <p:nvPr/>
        </p:nvPicPr>
        <p:blipFill>
          <a:blip r:embed="rId1"/>
          <a:stretch/>
        </p:blipFill>
        <p:spPr>
          <a:xfrm>
            <a:off x="130320" y="1295280"/>
            <a:ext cx="8861400" cy="529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oric Life Cycle (Mos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2" descr="http://taggart.glg.msu.edu/bot335/Mosslc.jpg"/>
          <p:cNvPicPr/>
          <p:nvPr/>
        </p:nvPicPr>
        <p:blipFill>
          <a:blip r:embed="rId1"/>
          <a:stretch/>
        </p:blipFill>
        <p:spPr>
          <a:xfrm>
            <a:off x="1447920" y="1447920"/>
            <a:ext cx="571500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ygo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forms a haploid organism that will then produce game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gi &amp; some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http://www.botany.hawaii.edu/faculty/webb/Bot201/Bot201/Algae/BOT%20201%20ZYGOTIC%20MEIOSIS.jpg"/>
          <p:cNvPicPr/>
          <p:nvPr/>
        </p:nvPicPr>
        <p:blipFill>
          <a:blip r:embed="rId1"/>
          <a:stretch/>
        </p:blipFill>
        <p:spPr>
          <a:xfrm>
            <a:off x="1676520" y="3124080"/>
            <a:ext cx="520992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Zygotic Life Cyc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ible part of a fungus is the 2n, (ephemer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derground filaments are the haploid body. (always pres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ttp://universe-review.ca/I10-21-fungi1.jpg"/>
          <p:cNvPicPr/>
          <p:nvPr/>
        </p:nvPicPr>
        <p:blipFill>
          <a:blip r:embed="rId1"/>
          <a:stretch/>
        </p:blipFill>
        <p:spPr>
          <a:xfrm>
            <a:off x="3886200" y="1366920"/>
            <a:ext cx="5257800" cy="549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. Function of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3505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iosis: forms ha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creases Variation among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08" name="Picture 8" descr="http://genetics.gsk.com/graphics/meiosis-big.gif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A. Asexual 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In the new cell, all of the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 comes from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one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Bu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29" descr="http://rds.yahoo.com/_ylt=A9iby4Wg.v9FdUEAohCjzbkF;_ylu=X3oDMTA4NDgyNWN0BHNlYwNwcm9m/SIG=123seefhd/EXP=1174490144/**http%3A//www.saburchill.com/ans02/images2/042.jpg"/>
          <p:cNvPicPr/>
          <p:nvPr/>
        </p:nvPicPr>
        <p:blipFill>
          <a:blip r:embed="rId1"/>
          <a:stretch/>
        </p:blipFill>
        <p:spPr>
          <a:xfrm>
            <a:off x="2666880" y="342900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1" descr="http://rds.yahoo.com/_ylt=A9iby4UI._9FzEAAIG.jzbkF;_ylu=X3oDMTA4NDgyNWN0BHNlYwNwcm9m/SIG=12f7ulv9c/EXP=1174490248/**http%3A//fig.cox.miami.edu/~cmallery/255/255mitos/fig17x2.jpg"/>
          <p:cNvPicPr/>
          <p:nvPr/>
        </p:nvPicPr>
        <p:blipFill>
          <a:blip r:embed="rId2"/>
          <a:stretch/>
        </p:blipFill>
        <p:spPr>
          <a:xfrm>
            <a:off x="6705720" y="1752480"/>
            <a:ext cx="1954080" cy="396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erphas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NA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Cell starts out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ploid (certain cells travel to the gonads to become sex cells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http://rds.yahoo.com/_ylt=A9gnMiM1g_hFnp0AnUCjzbkF;_ylu=X3oDMTA4NDgyNWN0BHNlYwNwcm9m/SIG=11t6gknh3/EXP=1174000821/**http%3A//faculty.uca.edu/~johnc/meiosis.jpg"/>
          <p:cNvPicPr/>
          <p:nvPr/>
        </p:nvPicPr>
        <p:blipFill>
          <a:blip r:embed="rId1"/>
          <a:srcRect l="21894" t="0" r="22150" b="73784"/>
          <a:stretch/>
        </p:blipFill>
        <p:spPr>
          <a:xfrm>
            <a:off x="3962520" y="2438280"/>
            <a:ext cx="4800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mologous chromoso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tch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from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1 from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15" name="Picture 14" descr="Crossover"/>
          <p:cNvPicPr/>
          <p:nvPr/>
        </p:nvPicPr>
        <p:blipFill>
          <a:blip r:embed="rId1"/>
          <a:srcRect l="0" t="0" r="0" b="70382"/>
          <a:stretch/>
        </p:blipFill>
        <p:spPr>
          <a:xfrm>
            <a:off x="2819520" y="4724280"/>
            <a:ext cx="5943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3276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rossing over =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changing pieces of 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19" name="Picture 7" descr="Crossover"/>
          <p:cNvPicPr/>
          <p:nvPr/>
        </p:nvPicPr>
        <p:blipFill>
          <a:blip r:embed="rId1"/>
          <a:stretch/>
        </p:blipFill>
        <p:spPr>
          <a:xfrm>
            <a:off x="3429000" y="17524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5943600" y="3657600"/>
            <a:ext cx="24382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molog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romosomes move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24" name="Picture 8" descr="http://rds.yahoo.com/_ylt=A9iby4EIe_hFaTwA32qjzbkF;_ylu=X3oDMTA4NDgyNWN0BHNlYwNwcm9m/SIG=121vhnev6/EXP=1173998728/**http%3A//taggart.glg.msu.edu/bs110/meiosis3.gif"/>
          <p:cNvPicPr/>
          <p:nvPr/>
        </p:nvPicPr>
        <p:blipFill>
          <a:blip r:embed="rId1"/>
          <a:srcRect l="6897" t="19380" r="8622" b="16679"/>
          <a:stretch/>
        </p:blipFill>
        <p:spPr>
          <a:xfrm>
            <a:off x="2514600" y="3124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omologous chromosomes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lled a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28" name="Picture 6" descr="meiosis"/>
          <p:cNvPicPr/>
          <p:nvPr/>
        </p:nvPicPr>
        <p:blipFill>
          <a:blip r:embed="rId1"/>
          <a:srcRect l="39264" t="41528" r="40444" b="43839"/>
          <a:stretch/>
        </p:blipFill>
        <p:spPr>
          <a:xfrm>
            <a:off x="6172200" y="28954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elophase I &amp; Cytokines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ells no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32" name="Picture 14" descr="http://rds.yahoo.com/_ylt=A9gnMiM1g_hFnp0AnUCjzbkF;_ylu=X3oDMTA4NDgyNWN0BHNlYwNwcm9m/SIG=11t6gknh3/EXP=1174000821/**http%3A//faculty.uca.edu/~johnc/meiosis.jpg"/>
          <p:cNvPicPr/>
          <p:nvPr/>
        </p:nvPicPr>
        <p:blipFill>
          <a:blip r:embed="rId1"/>
          <a:srcRect l="19465" t="5814" r="9988" b="28304"/>
          <a:stretch/>
        </p:blipFill>
        <p:spPr>
          <a:xfrm>
            <a:off x="4267080" y="1447920"/>
            <a:ext cx="464832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733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the cells considered haplo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352680"/>
            <a:ext cx="3733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hromosomes, but not the sa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37" name="Picture 7" descr="http://genetics.gsk.com/graphics/meiosis-big.gif"/>
          <p:cNvPicPr/>
          <p:nvPr/>
        </p:nvPicPr>
        <p:blipFill>
          <a:blip r:embed="rId1"/>
          <a:srcRect l="27542" t="0" r="0" b="38893"/>
          <a:stretch/>
        </p:blipFill>
        <p:spPr>
          <a:xfrm>
            <a:off x="3886200" y="144792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osis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es replicate (Interphase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ing Over (Prophase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logous chromosomes pulled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haploi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er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ll g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Organelles rep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 DNA REPLIC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Pr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NA condens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n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uclear membra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47" name="Picture 7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0" t="17140" r="68186" b="7729"/>
          <a:stretch/>
        </p:blipFill>
        <p:spPr>
          <a:xfrm>
            <a:off x="4952880" y="1447920"/>
            <a:ext cx="41911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3. </a:t>
            </a:r>
            <a:r>
              <a:rPr b="0" lang="en-US" sz="3200" spc="-1" strike="noStrike">
                <a:solidFill>
                  <a:srgbClr val="ff0000"/>
                </a:solidFill>
                <a:latin typeface="Subway"/>
              </a:rPr>
              <a:t>Mitosis</a:t>
            </a: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kes cells with the SAME NUMBER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http://rds.yahoo.com/_ylt=A9iby4Ou._9F6wABmR.jzbkF;_ylu=X3oDMTA4NDgyNWN0BHNlYwNwcm9m/SIG=124jjjhdb/EXP=1174490414/**http%3A//genetics.gsk.com/graphics/mitosis-big.gif"/>
          <p:cNvPicPr/>
          <p:nvPr/>
        </p:nvPicPr>
        <p:blipFill>
          <a:blip r:embed="rId1"/>
          <a:srcRect l="24348" t="0" r="13851" b="0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hromoso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line up in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1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28407" t="17335" r="41366" b="7729"/>
          <a:stretch/>
        </p:blipFill>
        <p:spPr>
          <a:xfrm>
            <a:off x="4648320" y="1295280"/>
            <a:ext cx="396216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indle fi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ttach to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kinetoch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hromosom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lled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5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54320" t="17335" r="18326" b="7729"/>
          <a:stretch/>
        </p:blipFill>
        <p:spPr>
          <a:xfrm>
            <a:off x="4952880" y="129528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VI.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eio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elophase &amp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ytokinesi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e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v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Nuclea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mbra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fo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ou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romat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 ha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495680" y="1371600"/>
            <a:ext cx="4419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159" name="Picture 6" descr="http://rds.yahoo.com/_ylt=A9gnMifoCABGchMBvAKjzbkF;_ylu=X3oDMTA4NDgyNWN0BHNlYwNwcm9m/SIG=12rgddrjn/EXP=1174493800/**http%3A//www.biology.iupui.edu/biocourses/N100/images/meiosis2cropped.jpg"/>
          <p:cNvPicPr/>
          <p:nvPr/>
        </p:nvPicPr>
        <p:blipFill>
          <a:blip r:embed="rId1"/>
          <a:srcRect l="60079" t="15414" r="2490" b="9650"/>
          <a:stretch/>
        </p:blipFill>
        <p:spPr>
          <a:xfrm>
            <a:off x="4495680" y="1523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mmary of Meio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1" name="Picture 1029" descr="http://rds.yahoo.com/_ylt=A9gnMiW3CgBGU_wARDSjzbkF;_ylu=X3oDMTA4NDgyNWN0BHNlYwNwcm9m/SIG=128ccr7ka/EXP=1174494263/**http%3A//www-rcf.usc.edu/~forsburg/images/meiosis2.jpg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perm cells differ from egg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muc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are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I. Oogenesis &amp; Spermatogenesi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51920" y="380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gg cell + 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ar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Long periods of “waiting” for meiosis to comp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http://rds.yahoo.com/_ylt=A9gnMic7DABGbhUBFEGjzbkF;_ylu=X3oDMTA4NDgyNWN0BHNlYwNwcm9m/SIG=12gpim87b/EXP=1174494651/**http%3A//dtc.pima.edu/~biology/160alpha/lesson20/oogenesis.jpg"/>
          <p:cNvPicPr/>
          <p:nvPr/>
        </p:nvPicPr>
        <p:blipFill>
          <a:blip r:embed="rId1"/>
          <a:srcRect l="27381" t="0" r="28575" b="1175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51920" y="685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permat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sion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 ce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ontinuous after onset of pub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http://rds.yahoo.com/_ylt=A9gnMiSLDQBG9E8AbmKjzbkF;_ylu=X3oDMTA4NDgyNWN0BHNlYwNwcm9m/SIG=12mt4idom/EXP=1174494987/**http%3A//dtc.pima.edu/~biology/160alpha/lesson20/spermatogenesis.jpg"/>
          <p:cNvPicPr/>
          <p:nvPr/>
        </p:nvPicPr>
        <p:blipFill>
          <a:blip r:embed="rId1"/>
          <a:srcRect l="48620" t="0" r="0" b="0"/>
          <a:stretch/>
        </p:blipFill>
        <p:spPr>
          <a:xfrm>
            <a:off x="4343400" y="60948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B. Sexual Rep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In the resulting organism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Half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of the DNA comes from </a:t>
            </a: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ne parent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(“male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Sub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ther half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of DNA comes from the </a:t>
            </a:r>
            <a:r>
              <a:rPr b="0" lang="en-US" sz="4000" spc="-1" strike="noStrike">
                <a:solidFill>
                  <a:srgbClr val="ff0000"/>
                </a:solidFill>
                <a:latin typeface="Subway"/>
              </a:rPr>
              <a:t>other parent</a:t>
            </a:r>
            <a:r>
              <a:rPr b="0" lang="en-US" sz="4000" spc="-1" strike="noStrike">
                <a:solidFill>
                  <a:srgbClr val="000000"/>
                </a:solidFill>
                <a:latin typeface="Subway"/>
              </a:rPr>
              <a:t> (“female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8088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. </a:t>
            </a:r>
            <a:r>
              <a:rPr b="0" lang="en-US" sz="4800" spc="-1" strike="noStrike">
                <a:solidFill>
                  <a:srgbClr val="0000ff"/>
                </a:solidFill>
                <a:latin typeface="Subway"/>
              </a:rPr>
              <a:t>Meiosis vs. Mitosis</a:t>
            </a: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bway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Subway"/>
              </a:rPr>
              <a:t>Meiosis</a:t>
            </a: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 = Makes cells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THE NUMBER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22142520"/>
            <a:ext cx="7315200" cy="231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55" name="Picture 37" descr="cell differentiation"/>
          <p:cNvPicPr/>
          <p:nvPr/>
        </p:nvPicPr>
        <p:blipFill>
          <a:blip r:embed="rId1"/>
          <a:stretch/>
        </p:blipFill>
        <p:spPr>
          <a:xfrm>
            <a:off x="131760" y="-11937960"/>
            <a:ext cx="2057400" cy="278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9" descr="http://genetics.gsk.com/images/spacer.gif"/>
          <p:cNvPicPr/>
          <p:nvPr/>
        </p:nvPicPr>
        <p:blipFill>
          <a:blip r:embed="rId2"/>
          <a:stretch/>
        </p:blipFill>
        <p:spPr>
          <a:xfrm>
            <a:off x="858960" y="-11801520"/>
            <a:ext cx="160200" cy="9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parts of a chromosome"/>
          <p:cNvPicPr/>
          <p:nvPr/>
        </p:nvPicPr>
        <p:blipFill>
          <a:blip r:embed="rId3"/>
          <a:stretch/>
        </p:blipFill>
        <p:spPr>
          <a:xfrm>
            <a:off x="131760" y="-6600960"/>
            <a:ext cx="2057400" cy="298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5" descr="http://genetics.gsk.com/images/spacer.gif"/>
          <p:cNvPicPr/>
          <p:nvPr/>
        </p:nvPicPr>
        <p:blipFill>
          <a:blip r:embed="rId4"/>
          <a:stretch/>
        </p:blipFill>
        <p:spPr>
          <a:xfrm>
            <a:off x="860400" y="-6464160"/>
            <a:ext cx="160200" cy="9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0" descr="http://genetics.gsk.com/images/spacer_trans.gif"/>
          <p:cNvPicPr/>
          <p:nvPr/>
        </p:nvPicPr>
        <p:blipFill>
          <a:blip r:embed="rId5"/>
          <a:stretch/>
        </p:blipFill>
        <p:spPr>
          <a:xfrm>
            <a:off x="131760" y="11696760"/>
            <a:ext cx="2217600" cy="11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process of meiosis"/>
          <p:cNvPicPr/>
          <p:nvPr/>
        </p:nvPicPr>
        <p:blipFill>
          <a:blip r:embed="rId6"/>
          <a:stretch/>
        </p:blipFill>
        <p:spPr>
          <a:xfrm>
            <a:off x="131760" y="123253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http://genetics.gsk.com/graphics/meiosis-big.gif"/>
          <p:cNvPicPr/>
          <p:nvPr/>
        </p:nvPicPr>
        <p:blipFill>
          <a:blip r:embed="rId7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142520"/>
            <a:ext cx="7315200" cy="231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ff"/>
              </a:solidFill>
              <a:latin typeface="Subway"/>
            </a:endParaRPr>
          </a:p>
        </p:txBody>
      </p:sp>
      <p:pic>
        <p:nvPicPr>
          <p:cNvPr id="63" name="Picture 5" descr="cell differentiation"/>
          <p:cNvPicPr/>
          <p:nvPr/>
        </p:nvPicPr>
        <p:blipFill>
          <a:blip r:embed="rId1"/>
          <a:stretch/>
        </p:blipFill>
        <p:spPr>
          <a:xfrm>
            <a:off x="131760" y="-11937960"/>
            <a:ext cx="2057400" cy="278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genetics.gsk.com/images/spacer.gif"/>
          <p:cNvPicPr/>
          <p:nvPr/>
        </p:nvPicPr>
        <p:blipFill>
          <a:blip r:embed="rId2"/>
          <a:stretch/>
        </p:blipFill>
        <p:spPr>
          <a:xfrm>
            <a:off x="858960" y="-11801520"/>
            <a:ext cx="160200" cy="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ts of a chromosome"/>
          <p:cNvPicPr/>
          <p:nvPr/>
        </p:nvPicPr>
        <p:blipFill>
          <a:blip r:embed="rId3"/>
          <a:stretch/>
        </p:blipFill>
        <p:spPr>
          <a:xfrm>
            <a:off x="131760" y="-6600960"/>
            <a:ext cx="2057400" cy="298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genetics.gsk.com/images/spacer.gif"/>
          <p:cNvPicPr/>
          <p:nvPr/>
        </p:nvPicPr>
        <p:blipFill>
          <a:blip r:embed="rId4"/>
          <a:stretch/>
        </p:blipFill>
        <p:spPr>
          <a:xfrm>
            <a:off x="860400" y="-6464160"/>
            <a:ext cx="160200" cy="9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genetics.gsk.com/images/spacer_trans.gif"/>
          <p:cNvPicPr/>
          <p:nvPr/>
        </p:nvPicPr>
        <p:blipFill>
          <a:blip r:embed="rId5"/>
          <a:stretch/>
        </p:blipFill>
        <p:spPr>
          <a:xfrm>
            <a:off x="131760" y="11696760"/>
            <a:ext cx="2217600" cy="11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process of meiosis"/>
          <p:cNvPicPr/>
          <p:nvPr/>
        </p:nvPicPr>
        <p:blipFill>
          <a:blip r:embed="rId6"/>
          <a:stretch/>
        </p:blipFill>
        <p:spPr>
          <a:xfrm>
            <a:off x="131760" y="1232532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genetics.gsk.com/graphics/meiosis-big.gif"/>
          <p:cNvPicPr/>
          <p:nvPr/>
        </p:nvPicPr>
        <p:blipFill>
          <a:blip r:embed="rId7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http://rds.yahoo.com/_ylt=A9iby4Ou._9F6wABmR.jzbkF;_ylu=X3oDMTA4NDgyNWN0BHNlYwNwcm9m/SIG=124jjjhdb/EXP=1174490414/**http%3A//genetics.gsk.com/graphics/mitosis-big.gif"/>
          <p:cNvPicPr/>
          <p:nvPr/>
        </p:nvPicPr>
        <p:blipFill>
          <a:blip r:embed="rId8"/>
          <a:srcRect l="24348" t="0" r="13851" b="0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. Gamet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(sex cel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in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1 copy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NA, n (somatic cells have 2 copies of DNA, hence 2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. Gamet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u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g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3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cells =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http://rds.yahoo.com/_ylt=A9ibyGbr_v9FSdQAoXOjzbkF;_ylu=X3oDMTA4NDgyNWN0BHNlYwNwcm9m/SIG=12t6bit2i/EXP=1174491243/**http%3A//www.rothamsted.bbsrc.ac.uk/notebook/courses/guide/images/sperm.jpg"/>
          <p:cNvPicPr/>
          <p:nvPr/>
        </p:nvPicPr>
        <p:blipFill>
          <a:blip r:embed="rId1"/>
          <a:stretch/>
        </p:blipFill>
        <p:spPr>
          <a:xfrm>
            <a:off x="6629400" y="304920"/>
            <a:ext cx="2133720" cy="335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ttp://rds.yahoo.com/_ylt=A9iby6Ir__9FQ_YAuXajzbkF;_ylu=X3oDMTA4NDgyNWN0BHNlYwNwcm9m/SIG=13152ehq2/EXP=1174491307/**http%3A//www.harunyahya.com/images_books/images_human_creation/yaratilis219.jpg"/>
          <p:cNvPicPr/>
          <p:nvPr/>
        </p:nvPicPr>
        <p:blipFill>
          <a:blip r:embed="rId2"/>
          <a:stretch/>
        </p:blipFill>
        <p:spPr>
          <a:xfrm>
            <a:off x="4800600" y="3828960"/>
            <a:ext cx="40006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ubway"/>
              </a:rPr>
              <a:t>III. Fertil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erti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incomplete” cell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complete” c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g + Sperm) =   (Embr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2:21:16Z</dcterms:created>
  <dc:creator>Haverford High School</dc:creator>
  <dc:description/>
  <dc:language>en-US</dc:language>
  <cp:lastModifiedBy>NASD</cp:lastModifiedBy>
  <cp:lastPrinted>1904-02-02T06:01:17Z</cp:lastPrinted>
  <dcterms:modified xsi:type="dcterms:W3CDTF">2009-01-22T15:45:04Z</dcterms:modified>
  <cp:revision>81</cp:revision>
  <dc:subject/>
  <dc:title>Mitosis &amp; Meiosis</dc:title>
</cp:coreProperties>
</file>